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C08-14F7-479F-8967-73E522CA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B92-6DD4-4691-85E7-E1D7BB83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B2D-2D2D-4275-823C-582935BA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7A8-2DE5-46D6-AA51-E7A4743B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1E9-4D57-4963-9946-517F4F5F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5E9-E693-492B-9783-B581F9CB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2E9-C18C-4041-8358-242F44FE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987-4ACE-428F-88AD-4665326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181-C20D-4372-B73D-BBE2C6B3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5D0-3985-4081-926E-5F5320F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5C0-1BC0-44C8-946C-EC74FC89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A50-41CF-4CEA-A707-853D7201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498B-704E-4B2B-849A-BFE4C5BA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0432-E8FF-4811-BA1C-64082B39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243A-DDF1-483E-B42F-F33F6AC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881E-DDC9-4AF5-AD14-D197AC1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D205-D445-4604-8DD6-F406FA89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AFE1-6DD9-41EE-9C16-4299381F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F59C-0B7C-4D13-934A-C83C1DA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CE5-5B7D-4707-98F3-16972FC6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4CF5-F6DE-4F7E-B4C7-D0F7C794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5057-46B5-4324-909F-3DC3A713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E38B-72E3-4FE2-873B-8413FD36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417E-93CF-4773-A248-1D85C60B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59B7E-36F2-457E-BFA2-31173FD0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E84F-FD87-450F-99E3-6E6F52A6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BF00-0019-4B6F-ACB7-B0EC5B5F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0AD0-8426-4614-AC6B-A2DDA88A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150E-8BA3-4BB7-8BBD-7D27CE2A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CD08-A898-4125-A662-38CDED4C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96AC-1B95-4993-B974-52E51485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EE9F-CE0E-45B1-B7AB-2573D409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6FAB-818C-46EC-BE11-D1538F0F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9FD7-E060-4BE5-AEA9-AD888F1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CBF2-FBF7-46AD-B371-99E28C96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8AEF-D3FD-43D6-A77F-8CCC4A87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DCC8-207D-4EB2-9774-101EB51C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41DB-9945-4CFC-8354-9F15E130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78C53-AFBE-4A7A-9E45-42579060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5981-6286-41D4-8FB4-83A3F07D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BF30-26EB-419C-A26F-3ACDF5A9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35375-A67A-49E2-AA88-FD0D44FF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CDF1-A757-4E98-948D-6141BBEF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12C0-E2C5-4B39-9388-7F9F46C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8B3E-75A6-4281-8EB3-51CC8EDA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FA95-C518-4DCB-9D23-40D3144B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68D9-8DAB-4133-9500-C793ADAB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617A-375E-4076-BC17-E220475A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44E9-F402-4C85-9C6B-91998302D8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F4B2-AE79-4C0F-BC88-C8FB387D2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171A-762B-4C9D-9A52-9E000BC359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5972-B7FA-480E-9590-893DA3AB06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2523240" y="4266360"/>
            <a:ext cx="46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　锐角三角函数的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228600" y="1295280"/>
          <a:ext cx="8524800" cy="48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5248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Object 2"/>
          <p:cNvGraphicFramePr/>
          <p:nvPr/>
        </p:nvGraphicFramePr>
        <p:xfrm>
          <a:off x="152280" y="762120"/>
          <a:ext cx="836136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36136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301" descr="C:/Users/Administrator/Desktop/九数冀教版/S169.TIF"/>
          <p:cNvPicPr/>
          <p:nvPr/>
        </p:nvPicPr>
        <p:blipFill>
          <a:blip r:embed="rId3"/>
          <a:stretch/>
        </p:blipFill>
        <p:spPr>
          <a:xfrm>
            <a:off x="3276720" y="4876920"/>
            <a:ext cx="2209680" cy="1611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7088040" y="913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630840" y="403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380880" y="1025640"/>
          <a:ext cx="8118720" cy="58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25640"/>
                    <a:ext cx="811872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2363400" y="1294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287440" y="464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304920" y="1066680"/>
          <a:ext cx="8300880" cy="7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008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3"/>
          <p:cNvSpPr/>
          <p:nvPr/>
        </p:nvSpPr>
        <p:spPr>
          <a:xfrm>
            <a:off x="3092760" y="23612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3°7′48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2"/>
          <p:cNvGraphicFramePr/>
          <p:nvPr/>
        </p:nvGraphicFramePr>
        <p:xfrm>
          <a:off x="380880" y="990720"/>
          <a:ext cx="816948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16948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Picture 302" descr="C:/Users/Administrator/Desktop/九数冀教版/S170.TIF"/>
          <p:cNvPicPr/>
          <p:nvPr/>
        </p:nvPicPr>
        <p:blipFill>
          <a:blip r:embed="rId3"/>
          <a:stretch/>
        </p:blipFill>
        <p:spPr>
          <a:xfrm>
            <a:off x="5257800" y="1676520"/>
            <a:ext cx="2133720" cy="153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4"/>
          <p:cNvGraphicFramePr/>
          <p:nvPr/>
        </p:nvGraphicFramePr>
        <p:xfrm>
          <a:off x="2133720" y="3657600"/>
          <a:ext cx="1819080" cy="1595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657600"/>
                    <a:ext cx="181908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28600" y="14587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地震发生后，一支专业搜救队驱车前往灾区救援．如图，汽车在一条南北走向的公路上向北行驶，当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时，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球卫星定位系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显示村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北偏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向，汽车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速度前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显示村庄在北偏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向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到村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距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村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该公路的距离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k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参考数据：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26°≈0.438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26°≈0.898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52°≈0.78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52°≈0.61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03" descr="C:/Users/Administrator/Desktop/九数冀教版/S172.TIF"/>
          <p:cNvPicPr/>
          <p:nvPr/>
        </p:nvPicPr>
        <p:blipFill>
          <a:blip r:embed="rId1"/>
          <a:stretch/>
        </p:blipFill>
        <p:spPr>
          <a:xfrm>
            <a:off x="6477120" y="4495680"/>
            <a:ext cx="110304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1105920" y="502812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 k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5.2 k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533520" y="1066680"/>
          <a:ext cx="8199360" cy="797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8199360" cy="797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"/>
          <p:cNvGraphicFramePr/>
          <p:nvPr/>
        </p:nvGraphicFramePr>
        <p:xfrm>
          <a:off x="1371600" y="2514600"/>
          <a:ext cx="5450040" cy="220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14600"/>
                    <a:ext cx="545004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"/>
          <p:cNvGraphicFramePr/>
          <p:nvPr/>
        </p:nvGraphicFramePr>
        <p:xfrm>
          <a:off x="1752480" y="5562720"/>
          <a:ext cx="5315040" cy="782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5562720"/>
                    <a:ext cx="53150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14680" y="989640"/>
            <a:ext cx="73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试用计算器计算，并将结果直接填入表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00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3000" y="1523880"/>
          <a:ext cx="6781680" cy="2362320"/>
        </p:xfrm>
        <a:graphic>
          <a:graphicData uri="http://schemas.openxmlformats.org/drawingml/2006/table">
            <a:tbl>
              <a:tblPr/>
              <a:tblGrid>
                <a:gridCol w="1519200"/>
                <a:gridCol w="895320"/>
                <a:gridCol w="895320"/>
                <a:gridCol w="895320"/>
                <a:gridCol w="895320"/>
                <a:gridCol w="895680"/>
                <a:gridCol w="78552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Object 37"/>
          <p:cNvGraphicFramePr/>
          <p:nvPr/>
        </p:nvGraphicFramePr>
        <p:xfrm>
          <a:off x="1600200" y="2133720"/>
          <a:ext cx="812880" cy="7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8128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38"/>
          <p:cNvSpPr/>
          <p:nvPr/>
        </p:nvSpPr>
        <p:spPr>
          <a:xfrm>
            <a:off x="1536840" y="411372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较表中数值，它能验证你的猜想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1946160" y="47242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利用直角三角形证明你的猜想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0"/>
          <p:cNvSpPr/>
          <p:nvPr/>
        </p:nvSpPr>
        <p:spPr>
          <a:xfrm>
            <a:off x="380880" y="5104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176 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364 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91 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747 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671 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1763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364 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91 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747 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671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41"/>
          <p:cNvGraphicFramePr/>
          <p:nvPr/>
        </p:nvGraphicFramePr>
        <p:xfrm>
          <a:off x="0" y="5867280"/>
          <a:ext cx="2946240" cy="782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4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867280"/>
                    <a:ext cx="2946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304920" y="1147680"/>
          <a:ext cx="8513640" cy="659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7680"/>
                    <a:ext cx="8513640" cy="65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3"/>
          <p:cNvSpPr/>
          <p:nvPr/>
        </p:nvSpPr>
        <p:spPr>
          <a:xfrm>
            <a:off x="2592000" y="25898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9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63200" y="59425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.91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107960" y="59425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2"/>
          <p:cNvGraphicFramePr/>
          <p:nvPr/>
        </p:nvGraphicFramePr>
        <p:xfrm>
          <a:off x="457200" y="1143000"/>
          <a:ext cx="833112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3112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3"/>
          <p:cNvSpPr/>
          <p:nvPr/>
        </p:nvSpPr>
        <p:spPr>
          <a:xfrm>
            <a:off x="3887640" y="1904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73512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计算器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00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°12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°40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°36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计算器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，它们的大小关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820600" y="144684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09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972880" y="190404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947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972880" y="25135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33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363760" y="411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380880" y="1295280"/>
          <a:ext cx="8169480" cy="45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1694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3"/>
          <p:cNvSpPr/>
          <p:nvPr/>
        </p:nvSpPr>
        <p:spPr>
          <a:xfrm>
            <a:off x="2074320" y="19800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021000" y="1980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3440" y="2818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380880" y="1066680"/>
          <a:ext cx="8209080" cy="491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20908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"/>
          <p:cNvSpPr/>
          <p:nvPr/>
        </p:nvSpPr>
        <p:spPr>
          <a:xfrm>
            <a:off x="2135160" y="1599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067760" y="510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210760" y="510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430080" y="510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228600" y="129060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2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用计算器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约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°38′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°22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°23′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°37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945040" y="14468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287440" y="411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04920" y="1061640"/>
            <a:ext cx="865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运用计算器计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度数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9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3440" y="1751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995080" y="50281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°52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491480" y="919080"/>
            <a:ext cx="5803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三角函数值，求锐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″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锐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锐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2177640" y="2665800"/>
            <a:ext cx="16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°7′9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848240" y="5028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8°41′24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g; x</dc:creator>
  <dc:description/>
  <dc:language>en-US</dc:language>
  <cp:lastModifiedBy>Microsoft</cp:lastModifiedBy>
  <dcterms:modified xsi:type="dcterms:W3CDTF">2015-11-22T05:25:4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